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E3A-34BF-4E59-9072-F960C14C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5DB-4373-4421-847A-1330022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6CB-913D-46E8-B8C9-D5A5864B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C9D-CE3A-4A90-A4BE-3356B9F2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7CB4-2CFE-4EB0-BEE3-8749349B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1DE7-6F08-45A7-9009-09ECEF3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12F-B2F3-4952-8BA4-5254AE69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5CB7-0F90-465D-83B3-0ACA849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5B87-434E-41FA-A6D3-11E079F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2F92-7FF0-4FB6-BC97-82862C44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C4BD-5C33-4111-ABF2-9DE43D5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A95-6D35-43E2-8445-B6DDB4A4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AB65-671C-4AAC-A6CF-1834686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C48-1014-4EE2-A8F2-7ECA714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4163-3301-4087-BF49-785B4D2B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2295-C03D-46BC-936D-8B4D926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1FC0-B924-49BF-AFBE-B50E4E42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C1A-6120-470C-B6BF-46AA87B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A0E-634D-40DD-8D34-DF4CAD6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C24-3DA0-41B9-9962-BD34C294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7D3-1EEA-4D9D-A077-D0C5BF5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011-828A-4F1C-BC1B-D5065E5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90F-9090-47E4-B55B-65DDE5C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46C-9590-4B23-B0FC-63315A4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E926-AD56-43EC-BCC5-82863AF8C6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332-8FDA-43A2-A739-72D713D143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bc.com/saturday-night-live/video/clips/theodoric-of-york/2888/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dical Practition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e of the Sic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ng gro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hea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caries (Pharmaci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e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628" t="2190" r="0" b="0"/>
          <a:stretch/>
        </p:blipFill>
        <p:spPr>
          <a:xfrm>
            <a:off x="4267080" y="3276720"/>
            <a:ext cx="3221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th Heal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&amp; Evil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Disorders- actually help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r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dvanced research in medic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 or more prescribed drugs per single pr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bloodletting was more effective in speeding patients to their gra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loodlet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d Blo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Physicians and Apothec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of good h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Humors: 1)Leeches 2)Liver 3)Arteries 4)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doric of York-SNL s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bc.com/saturday-night-live/video/clips/theodoric-of-york/2888/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ge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more progress than other medical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ble to butchers and barb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u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le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rrible screams of people whose limbs were being sawed off echoed across the battle fields and through hospital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38720" y="2055960"/>
            <a:ext cx="28576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dw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 Hu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good as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3:59:01Z</dcterms:created>
  <dc:creator>MNS</dc:creator>
  <dc:description/>
  <dc:language>en-US</dc:language>
  <cp:lastModifiedBy>MNS</cp:lastModifiedBy>
  <dcterms:modified xsi:type="dcterms:W3CDTF">2009-12-07T15:07:14Z</dcterms:modified>
  <cp:revision>5</cp:revision>
  <dc:subject/>
  <dc:title>Medical Practioners</dc:title>
</cp:coreProperties>
</file>